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08B77-C8EF-461B-87A4-678FAB9F9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0377-2092-4922-8B04-FB39276D1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29B6-5C67-43E0-9388-924E88FC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0A27-8633-4465-A63A-C279CFA5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BE4-35DE-45B9-B821-580A91FF6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CA1A9-BA73-46E9-86F7-769B90ACD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1A53-89FF-43AC-8FDC-D721B22A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67D5-DD62-48C6-8EC7-B17AE24E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228C-917E-460B-ACD7-42361127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6155-AD21-40C9-A0C5-4AF229C46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AAAE-14E7-4ECB-9BB3-1A14C999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1BC0-5EAB-4B96-ABF3-7567FD3EB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7F34-1FB5-4C73-B457-2E0D683E5F9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3.png"/><Relationship Id="rId29" Type="http://schemas.openxmlformats.org/officeDocument/2006/relationships/image" Target="../media/image3.png"/><Relationship Id="rId30" Type="http://schemas.openxmlformats.org/officeDocument/2006/relationships/image" Target="../media/image3.png"/><Relationship Id="rId31" Type="http://schemas.openxmlformats.org/officeDocument/2006/relationships/image" Target="../media/image3.png"/><Relationship Id="rId32" Type="http://schemas.openxmlformats.org/officeDocument/2006/relationships/image" Target="../media/image3.png"/><Relationship Id="rId3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zomszéd Iskol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5. dec. 6. 19 ó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08000" y="108000"/>
            <a:ext cx="1922400" cy="1798560"/>
          </a:xfrm>
          <a:prstGeom prst="rect">
            <a:avLst/>
          </a:prstGeom>
          <a:ln w="0">
            <a:noFill/>
          </a:ln>
        </p:spPr>
      </p:pic>
      <p:grpSp>
        <p:nvGrpSpPr>
          <p:cNvPr id="44" name=""/>
          <p:cNvGrpSpPr/>
          <p:nvPr/>
        </p:nvGrpSpPr>
        <p:grpSpPr>
          <a:xfrm>
            <a:off x="7462800" y="108000"/>
            <a:ext cx="1572840" cy="1800000"/>
            <a:chOff x="7462800" y="108000"/>
            <a:chExt cx="1572840" cy="180000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7462800" y="108000"/>
              <a:ext cx="1572480" cy="91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 flipH="1" rot="10800000">
              <a:off x="7463160" y="988200"/>
              <a:ext cx="1572480" cy="9194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Fejet Len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ár azt hallottam, nagyon igyekszel, nem mennek olyan jól a dolgok. Talán azért, mert szétszórt vag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óbálj meg néh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ndjuk –  óránként egyszer, pár percre megállni, és átgondolni, mit akartál az elmúlt órában csinálni és mi a célod a következő óráv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81680" y="950760"/>
            <a:ext cx="392400" cy="452520"/>
            <a:chOff x="6781680" y="950760"/>
            <a:chExt cx="392400" cy="45252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92400" cy="2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2880"/>
              <a:ext cx="392040" cy="230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53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57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9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6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2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63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5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8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6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1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7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3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4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7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6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7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78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0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81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3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84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6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87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8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9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90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2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93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95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96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7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00"/>
                            </p:stCondLst>
                            <p:childTnLst>
                              <p:par>
                                <p:cTn id="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6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d3d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ineta BT"/>
              </a:rPr>
              <a:t>Mik Robik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92000" y="1528560"/>
            <a:ext cx="52182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ktív vagy, minden közösségi programban részt veszel, dolgozol az iskolai önkormányzatban i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igyázz, hogy mindenre, még alvásra is megfelelő mennyiségű időd juss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781680" y="950760"/>
            <a:ext cx="389160" cy="448560"/>
            <a:chOff x="6781680" y="950760"/>
            <a:chExt cx="389160" cy="44856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6781680" y="950760"/>
              <a:ext cx="389160" cy="2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 flipH="1" rot="10800000">
              <a:off x="6781680" y="1170720"/>
              <a:ext cx="388800" cy="22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360360" y="1190520"/>
            <a:ext cx="8272440" cy="5666760"/>
            <a:chOff x="360360" y="1190520"/>
            <a:chExt cx="8272440" cy="5666760"/>
          </a:xfrm>
        </p:grpSpPr>
        <p:grpSp>
          <p:nvGrpSpPr>
            <p:cNvPr id="104" name=""/>
            <p:cNvGrpSpPr/>
            <p:nvPr/>
          </p:nvGrpSpPr>
          <p:grpSpPr>
            <a:xfrm>
              <a:off x="692280" y="1190520"/>
              <a:ext cx="388800" cy="448560"/>
              <a:chOff x="692280" y="1190520"/>
              <a:chExt cx="388800" cy="448560"/>
            </a:xfrm>
          </p:grpSpPr>
          <p:pic>
            <p:nvPicPr>
              <p:cNvPr id="10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92280" y="11905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6" name="" descr=""/>
              <p:cNvPicPr/>
              <p:nvPr/>
            </p:nvPicPr>
            <p:blipFill>
              <a:blip r:embed="rId4"/>
              <a:stretch/>
            </p:blipFill>
            <p:spPr>
              <a:xfrm flipH="1" rot="10800000">
                <a:off x="692280" y="14104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7" name=""/>
            <p:cNvGrpSpPr/>
            <p:nvPr/>
          </p:nvGrpSpPr>
          <p:grpSpPr>
            <a:xfrm>
              <a:off x="1414440" y="3570120"/>
              <a:ext cx="388800" cy="448560"/>
              <a:chOff x="1414440" y="3570120"/>
              <a:chExt cx="388800" cy="448560"/>
            </a:xfrm>
          </p:grpSpPr>
          <p:pic>
            <p:nvPicPr>
              <p:cNvPr id="10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1414440" y="35701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9" name="" descr=""/>
              <p:cNvPicPr/>
              <p:nvPr/>
            </p:nvPicPr>
            <p:blipFill>
              <a:blip r:embed="rId6"/>
              <a:stretch/>
            </p:blipFill>
            <p:spPr>
              <a:xfrm flipH="1" rot="10800000">
                <a:off x="1414440" y="37900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0" name=""/>
            <p:cNvGrpSpPr/>
            <p:nvPr/>
          </p:nvGrpSpPr>
          <p:grpSpPr>
            <a:xfrm>
              <a:off x="2093760" y="1706400"/>
              <a:ext cx="389160" cy="448560"/>
              <a:chOff x="2093760" y="1706400"/>
              <a:chExt cx="389160" cy="448560"/>
            </a:xfrm>
          </p:grpSpPr>
          <p:pic>
            <p:nvPicPr>
              <p:cNvPr id="11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2093760" y="17064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2" name="" descr=""/>
              <p:cNvPicPr/>
              <p:nvPr/>
            </p:nvPicPr>
            <p:blipFill>
              <a:blip r:embed="rId8"/>
              <a:stretch/>
            </p:blipFill>
            <p:spPr>
              <a:xfrm flipH="1" rot="10800000">
                <a:off x="2093760" y="1926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3" name=""/>
            <p:cNvGrpSpPr/>
            <p:nvPr/>
          </p:nvGrpSpPr>
          <p:grpSpPr>
            <a:xfrm>
              <a:off x="2573280" y="2943360"/>
              <a:ext cx="389160" cy="448560"/>
              <a:chOff x="2573280" y="2943360"/>
              <a:chExt cx="389160" cy="448560"/>
            </a:xfrm>
          </p:grpSpPr>
          <p:pic>
            <p:nvPicPr>
              <p:cNvPr id="11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573280" y="294336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10"/>
              <a:stretch/>
            </p:blipFill>
            <p:spPr>
              <a:xfrm flipH="1" rot="10800000">
                <a:off x="2573280" y="31633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6" name=""/>
            <p:cNvGrpSpPr/>
            <p:nvPr/>
          </p:nvGrpSpPr>
          <p:grpSpPr>
            <a:xfrm>
              <a:off x="695160" y="2622600"/>
              <a:ext cx="389160" cy="448560"/>
              <a:chOff x="695160" y="2622600"/>
              <a:chExt cx="389160" cy="448560"/>
            </a:xfrm>
          </p:grpSpPr>
          <p:pic>
            <p:nvPicPr>
              <p:cNvPr id="117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95160" y="26226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" name="" descr=""/>
              <p:cNvPicPr/>
              <p:nvPr/>
            </p:nvPicPr>
            <p:blipFill>
              <a:blip r:embed="rId12"/>
              <a:stretch/>
            </p:blipFill>
            <p:spPr>
              <a:xfrm flipH="1" rot="10800000">
                <a:off x="695160" y="28425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" name=""/>
            <p:cNvGrpSpPr/>
            <p:nvPr/>
          </p:nvGrpSpPr>
          <p:grpSpPr>
            <a:xfrm>
              <a:off x="2489040" y="4459320"/>
              <a:ext cx="389160" cy="448560"/>
              <a:chOff x="2489040" y="4459320"/>
              <a:chExt cx="389160" cy="448560"/>
            </a:xfrm>
          </p:grpSpPr>
          <p:pic>
            <p:nvPicPr>
              <p:cNvPr id="12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489040" y="44593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" name="" descr=""/>
              <p:cNvPicPr/>
              <p:nvPr/>
            </p:nvPicPr>
            <p:blipFill>
              <a:blip r:embed="rId14"/>
              <a:stretch/>
            </p:blipFill>
            <p:spPr>
              <a:xfrm flipH="1" rot="10800000">
                <a:off x="2489040" y="46792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2" name=""/>
            <p:cNvGrpSpPr/>
            <p:nvPr/>
          </p:nvGrpSpPr>
          <p:grpSpPr>
            <a:xfrm>
              <a:off x="639720" y="4681440"/>
              <a:ext cx="389160" cy="448560"/>
              <a:chOff x="639720" y="4681440"/>
              <a:chExt cx="389160" cy="4485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39720" y="468144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" name="" descr=""/>
              <p:cNvPicPr/>
              <p:nvPr/>
            </p:nvPicPr>
            <p:blipFill>
              <a:blip r:embed="rId16"/>
              <a:stretch/>
            </p:blipFill>
            <p:spPr>
              <a:xfrm flipH="1" rot="10800000">
                <a:off x="639720" y="490140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5" name=""/>
            <p:cNvGrpSpPr/>
            <p:nvPr/>
          </p:nvGrpSpPr>
          <p:grpSpPr>
            <a:xfrm>
              <a:off x="7405560" y="5904000"/>
              <a:ext cx="389160" cy="448560"/>
              <a:chOff x="7405560" y="5904000"/>
              <a:chExt cx="389160" cy="448560"/>
            </a:xfrm>
          </p:grpSpPr>
          <p:pic>
            <p:nvPicPr>
              <p:cNvPr id="126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7405560" y="590400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" name="" descr=""/>
              <p:cNvPicPr/>
              <p:nvPr/>
            </p:nvPicPr>
            <p:blipFill>
              <a:blip r:embed="rId18"/>
              <a:stretch/>
            </p:blipFill>
            <p:spPr>
              <a:xfrm flipH="1" rot="10800000">
                <a:off x="7405560" y="61239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8" name=""/>
            <p:cNvGrpSpPr/>
            <p:nvPr/>
          </p:nvGrpSpPr>
          <p:grpSpPr>
            <a:xfrm>
              <a:off x="4741920" y="5940360"/>
              <a:ext cx="388800" cy="448560"/>
              <a:chOff x="4741920" y="5940360"/>
              <a:chExt cx="388800" cy="448560"/>
            </a:xfrm>
          </p:grpSpPr>
          <p:pic>
            <p:nvPicPr>
              <p:cNvPr id="12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4741920" y="594036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0" name="" descr=""/>
              <p:cNvPicPr/>
              <p:nvPr/>
            </p:nvPicPr>
            <p:blipFill>
              <a:blip r:embed="rId20"/>
              <a:stretch/>
            </p:blipFill>
            <p:spPr>
              <a:xfrm flipH="1" rot="10800000">
                <a:off x="4741920" y="616032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1" name=""/>
            <p:cNvGrpSpPr/>
            <p:nvPr/>
          </p:nvGrpSpPr>
          <p:grpSpPr>
            <a:xfrm>
              <a:off x="1320840" y="5662440"/>
              <a:ext cx="388800" cy="448560"/>
              <a:chOff x="1320840" y="5662440"/>
              <a:chExt cx="388800" cy="448560"/>
            </a:xfrm>
          </p:grpSpPr>
          <p:pic>
            <p:nvPicPr>
              <p:cNvPr id="132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1320840" y="56624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" name="" descr=""/>
              <p:cNvPicPr/>
              <p:nvPr/>
            </p:nvPicPr>
            <p:blipFill>
              <a:blip r:embed="rId22"/>
              <a:stretch/>
            </p:blipFill>
            <p:spPr>
              <a:xfrm flipH="1" rot="10800000">
                <a:off x="1320840" y="58824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4" name=""/>
            <p:cNvGrpSpPr/>
            <p:nvPr/>
          </p:nvGrpSpPr>
          <p:grpSpPr>
            <a:xfrm>
              <a:off x="8244000" y="6323040"/>
              <a:ext cx="388800" cy="448560"/>
              <a:chOff x="8244000" y="6323040"/>
              <a:chExt cx="388800" cy="448560"/>
            </a:xfrm>
          </p:grpSpPr>
          <p:pic>
            <p:nvPicPr>
              <p:cNvPr id="135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8244000" y="63230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6" name="" descr=""/>
              <p:cNvPicPr/>
              <p:nvPr/>
            </p:nvPicPr>
            <p:blipFill>
              <a:blip r:embed="rId24"/>
              <a:stretch/>
            </p:blipFill>
            <p:spPr>
              <a:xfrm flipH="1" rot="10800000">
                <a:off x="8244000" y="654300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7" name=""/>
            <p:cNvGrpSpPr/>
            <p:nvPr/>
          </p:nvGrpSpPr>
          <p:grpSpPr>
            <a:xfrm>
              <a:off x="5894280" y="6408720"/>
              <a:ext cx="389160" cy="448560"/>
              <a:chOff x="5894280" y="6408720"/>
              <a:chExt cx="389160" cy="448560"/>
            </a:xfrm>
          </p:grpSpPr>
          <p:pic>
            <p:nvPicPr>
              <p:cNvPr id="138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5894280" y="640872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9" name="" descr=""/>
              <p:cNvPicPr/>
              <p:nvPr/>
            </p:nvPicPr>
            <p:blipFill>
              <a:blip r:embed="rId26"/>
              <a:stretch/>
            </p:blipFill>
            <p:spPr>
              <a:xfrm flipH="1" rot="10800000">
                <a:off x="5894280" y="662868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0" name=""/>
            <p:cNvGrpSpPr/>
            <p:nvPr/>
          </p:nvGrpSpPr>
          <p:grpSpPr>
            <a:xfrm>
              <a:off x="3745080" y="6408720"/>
              <a:ext cx="388800" cy="448560"/>
              <a:chOff x="3745080" y="6408720"/>
              <a:chExt cx="388800" cy="448560"/>
            </a:xfrm>
          </p:grpSpPr>
          <p:pic>
            <p:nvPicPr>
              <p:cNvPr id="141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374508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2" name="" descr=""/>
              <p:cNvPicPr/>
              <p:nvPr/>
            </p:nvPicPr>
            <p:blipFill>
              <a:blip r:embed="rId28"/>
              <a:stretch/>
            </p:blipFill>
            <p:spPr>
              <a:xfrm flipH="1" rot="10800000">
                <a:off x="374508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3" name=""/>
            <p:cNvGrpSpPr/>
            <p:nvPr/>
          </p:nvGrpSpPr>
          <p:grpSpPr>
            <a:xfrm>
              <a:off x="2124000" y="6151680"/>
              <a:ext cx="389160" cy="448560"/>
              <a:chOff x="2124000" y="6151680"/>
              <a:chExt cx="389160" cy="448560"/>
            </a:xfrm>
          </p:grpSpPr>
          <p:pic>
            <p:nvPicPr>
              <p:cNvPr id="144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124000" y="6151680"/>
                <a:ext cx="38916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5" name="" descr=""/>
              <p:cNvPicPr/>
              <p:nvPr/>
            </p:nvPicPr>
            <p:blipFill>
              <a:blip r:embed="rId30"/>
              <a:stretch/>
            </p:blipFill>
            <p:spPr>
              <a:xfrm flipH="1" rot="10800000">
                <a:off x="2124000" y="637164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6" name=""/>
            <p:cNvGrpSpPr/>
            <p:nvPr/>
          </p:nvGrpSpPr>
          <p:grpSpPr>
            <a:xfrm>
              <a:off x="360360" y="6408720"/>
              <a:ext cx="388800" cy="448560"/>
              <a:chOff x="360360" y="6408720"/>
              <a:chExt cx="388800" cy="448560"/>
            </a:xfrm>
          </p:grpSpPr>
          <p:pic>
            <p:nvPicPr>
              <p:cNvPr id="147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360360" y="6408720"/>
                <a:ext cx="388800" cy="228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8" name="" descr=""/>
              <p:cNvPicPr/>
              <p:nvPr/>
            </p:nvPicPr>
            <p:blipFill>
              <a:blip r:embed="rId32"/>
              <a:stretch/>
            </p:blipFill>
            <p:spPr>
              <a:xfrm flipH="1" rot="10800000">
                <a:off x="360360" y="6628680"/>
                <a:ext cx="388440" cy="228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10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25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18:42:05Z</dcterms:created>
  <dc:creator/>
  <dc:description/>
  <dc:language>en-US</dc:language>
  <cp:lastModifiedBy>OKÉV</cp:lastModifiedBy>
  <dcterms:modified xsi:type="dcterms:W3CDTF">2005-08-17T20:29:03Z</dcterms:modified>
  <cp:revision>20</cp:revision>
  <dc:subject/>
  <dc:title>Szomszéd Iskola</dc:title>
</cp:coreProperties>
</file>